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applause.wav" ContentType="audio/x-wav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0B117-1682-47A2-90E5-0A56809616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8B0AD-9E3D-4B95-9513-859F28D684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F33-DBD6-44C4-8951-93D3F455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732-3357-463C-9E4C-B937DE04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B71-4C2A-4DFC-B398-EC988091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514-9F64-4653-8925-135CC876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AD1-E2C8-4E04-86D1-9D8497DA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EB3-B2C2-4443-A19F-D265317C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635-F677-47A3-84CA-D24DAD95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681-6970-4664-8F22-6CD84302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F5F-20F4-4A60-A4EE-9AEEE42C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036-4E6A-4E61-B7BB-DD0398B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0F2-F556-4994-AC6E-BFD4F1D7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DDF-E17E-4A3D-8FA1-9CEE0099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3948C-C417-4D3C-8FDE-387B27303AB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487600" y="2139840"/>
            <a:ext cx="4132440" cy="33339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"/>
          <p:cNvSpPr/>
          <p:nvPr/>
        </p:nvSpPr>
        <p:spPr>
          <a:xfrm>
            <a:off x="2349360" y="1011240"/>
            <a:ext cx="488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赏荷</a:t>
            </a:r>
            <a:r>
              <a:rPr b="1" lang="zh-CN" sz="4800" spc="-1" strike="noStrike">
                <a:solidFill>
                  <a:srgbClr val="cc0000"/>
                </a:solidFill>
                <a:latin typeface="Calibri"/>
                <a:ea typeface="黑体"/>
              </a:rPr>
              <a:t>（四篇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069920" y="1824120"/>
            <a:ext cx="741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坼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流泻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徘徊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矩形 1"/>
          <p:cNvSpPr/>
          <p:nvPr/>
        </p:nvSpPr>
        <p:spPr>
          <a:xfrm>
            <a:off x="1884240" y="1862280"/>
            <a:ext cx="6802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裂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干旱持续了两个月，土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坼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，人们期待一场好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液体、光线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迅速地流出、射出、跑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一缕阳光从窗口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流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一个地方来回地走。②比喻犹疑不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独自在江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徘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为选择走哪条路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徘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1069920" y="1824120"/>
            <a:ext cx="741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攲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慈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荫庇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肥润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2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矩形 1"/>
          <p:cNvSpPr/>
          <p:nvPr/>
        </p:nvSpPr>
        <p:spPr>
          <a:xfrm>
            <a:off x="1947960" y="1851120"/>
            <a:ext cx="670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倾斜；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攲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树枝上开满了美丽的梅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慈爱怜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树枝叶遮蔽阳光，宜于人们休息，比喻尊长照顾晚辈或祖宗保佑子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我们一定要学会独立，不能总是生活在父母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荫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之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肥美润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1069920" y="1824120"/>
            <a:ext cx="741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挨挨挤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轰轰烈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8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矩形 1"/>
          <p:cNvSpPr/>
          <p:nvPr/>
        </p:nvSpPr>
        <p:spPr>
          <a:xfrm>
            <a:off x="2514600" y="1833480"/>
            <a:ext cx="596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非常拥挤。文中形容荷叶相互间靠得很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秋天到了，花园里的菊花开了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挨挨挤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，非常漂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气魄雄伟，声势浩大。文中指荷花开得非常茂盛、热烈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爸爸这几年吃苦耐劳，紧抓商机，他的事业干得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轰轰烈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3963240" y="19350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陶醉　沉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2209680" y="2506680"/>
            <a:ext cx="642960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个词语都指满意地沉浸在某种境界或思想活动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陶醉”多指沉浸在美好的景象中。“沉醉”原指大醉，也指沉迷于想象、某种氛围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每次去黄山旅游，我都会</a:t>
            </a:r>
            <a:r>
              <a:rPr b="1" lang="zh-CN" sz="2200" spc="-1" strike="noStrike">
                <a:solidFill>
                  <a:srgbClr val="ff0066"/>
                </a:solidFill>
                <a:latin typeface="宋体"/>
              </a:rPr>
              <a:t>陶醉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“黄山四绝”的美妙风景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过春节时，乐乐</a:t>
            </a:r>
            <a:r>
              <a:rPr b="1" lang="zh-CN" sz="2200" spc="-1" strike="noStrike">
                <a:solidFill>
                  <a:srgbClr val="ff0066"/>
                </a:solidFill>
                <a:latin typeface="宋体"/>
              </a:rPr>
              <a:t>沉醉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节日的欢乐气氛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5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组合 4"/>
          <p:cNvGrpSpPr/>
          <p:nvPr/>
        </p:nvGrpSpPr>
        <p:grpSpPr>
          <a:xfrm>
            <a:off x="681120" y="2571840"/>
            <a:ext cx="1670040" cy="459720"/>
            <a:chOff x="681120" y="2571840"/>
            <a:chExt cx="1670040" cy="459720"/>
          </a:xfrm>
        </p:grpSpPr>
        <p:pic>
          <p:nvPicPr>
            <p:cNvPr id="139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262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3"/>
            <p:cNvSpPr/>
            <p:nvPr/>
          </p:nvSpPr>
          <p:spPr>
            <a:xfrm>
              <a:off x="1024200" y="25718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组合 20"/>
          <p:cNvGrpSpPr/>
          <p:nvPr/>
        </p:nvGrpSpPr>
        <p:grpSpPr>
          <a:xfrm>
            <a:off x="681120" y="3154320"/>
            <a:ext cx="1670040" cy="459720"/>
            <a:chOff x="681120" y="3154320"/>
            <a:chExt cx="1670040" cy="459720"/>
          </a:xfrm>
        </p:grpSpPr>
        <p:pic>
          <p:nvPicPr>
            <p:cNvPr id="142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086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22"/>
            <p:cNvSpPr/>
            <p:nvPr/>
          </p:nvSpPr>
          <p:spPr>
            <a:xfrm>
              <a:off x="1024200" y="31543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23"/>
          <p:cNvGrpSpPr/>
          <p:nvPr/>
        </p:nvGrpSpPr>
        <p:grpSpPr>
          <a:xfrm>
            <a:off x="681120" y="4227480"/>
            <a:ext cx="1670040" cy="459720"/>
            <a:chOff x="681120" y="4227480"/>
            <a:chExt cx="1670040" cy="459720"/>
          </a:xfrm>
        </p:grpSpPr>
        <p:pic>
          <p:nvPicPr>
            <p:cNvPr id="145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2818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25"/>
            <p:cNvSpPr/>
            <p:nvPr/>
          </p:nvSpPr>
          <p:spPr>
            <a:xfrm>
              <a:off x="1024200" y="42274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5"/>
          <p:cNvSpPr/>
          <p:nvPr/>
        </p:nvSpPr>
        <p:spPr>
          <a:xfrm>
            <a:off x="536400" y="950760"/>
            <a:ext cx="70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课文，小组合作完成下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52600" y="1538280"/>
          <a:ext cx="8213400" cy="4797360"/>
        </p:xfrm>
        <a:graphic>
          <a:graphicData uri="http://schemas.openxmlformats.org/drawingml/2006/table">
            <a:tbl>
              <a:tblPr/>
              <a:tblGrid>
                <a:gridCol w="2052360"/>
                <a:gridCol w="2054520"/>
                <a:gridCol w="2052360"/>
                <a:gridCol w="205416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课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作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荷花独特的美（或特点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表达的思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8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荷花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叶圣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荷花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汪曾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雨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冰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</a:tr>
              <a:tr h="960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荷叶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席慕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矩形 2"/>
          <p:cNvSpPr/>
          <p:nvPr/>
        </p:nvSpPr>
        <p:spPr>
          <a:xfrm>
            <a:off x="4618080" y="24652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形状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颜色，整体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局部语言优美、描写细腻想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802560" y="260208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热爱大自然的情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4618080" y="35164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描绘了生命历程、语言极其简洁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8"/>
          <p:cNvSpPr/>
          <p:nvPr/>
        </p:nvSpPr>
        <p:spPr>
          <a:xfrm>
            <a:off x="6802560" y="35416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对生活的热爱与思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4618080" y="43527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借景抒情、以莲喻人、结构严谨巧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0"/>
          <p:cNvSpPr/>
          <p:nvPr/>
        </p:nvSpPr>
        <p:spPr>
          <a:xfrm>
            <a:off x="6843600" y="4584600"/>
            <a:ext cx="21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联想到母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1"/>
          <p:cNvSpPr/>
          <p:nvPr/>
        </p:nvSpPr>
        <p:spPr>
          <a:xfrm>
            <a:off x="4649760" y="5349960"/>
            <a:ext cx="21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用对比手法探问生命的意义，蕴含深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6724800" y="5470560"/>
            <a:ext cx="21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由荷叶的样子想到人生的境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9" name="矩形 11"/>
          <p:cNvSpPr/>
          <p:nvPr/>
        </p:nvSpPr>
        <p:spPr>
          <a:xfrm>
            <a:off x="1190520" y="2516040"/>
            <a:ext cx="7070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选了四篇有关荷花的短文，从文中我们可以看到到荷花在不同作家笔下的多姿多彩的美，也可以感受到作者所表达的不同的感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7167"/>
          <p:cNvSpPr/>
          <p:nvPr/>
        </p:nvSpPr>
        <p:spPr>
          <a:xfrm>
            <a:off x="911160" y="2492280"/>
            <a:ext cx="754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的字选择正确的读音，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藕秧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ā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àng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徘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ái huá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ài hu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荫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ìn b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īn pì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骨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g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ǔ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41"/>
          <p:cNvSpPr/>
          <p:nvPr/>
        </p:nvSpPr>
        <p:spPr>
          <a:xfrm>
            <a:off x="5153760" y="3813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41"/>
          <p:cNvSpPr/>
          <p:nvPr/>
        </p:nvSpPr>
        <p:spPr>
          <a:xfrm>
            <a:off x="1440720" y="32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4547160" y="3130560"/>
            <a:ext cx="9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2539440" y="3359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3619080" y="3890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5933520" y="3403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5923080" y="3960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1112760" y="3706920"/>
            <a:ext cx="9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3"/>
          <p:cNvSpPr/>
          <p:nvPr/>
        </p:nvSpPr>
        <p:spPr>
          <a:xfrm>
            <a:off x="1312920" y="177012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照样子，加偏旁组成新字，再给新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秧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秧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________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3709080" y="262908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3104280" y="30510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排　   排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5871960" y="306396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徊　   徘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3104280" y="35812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荫　   荫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6190200" y="359244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庇　   庇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2"/>
          <p:cNvSpPr/>
          <p:nvPr/>
        </p:nvSpPr>
        <p:spPr>
          <a:xfrm>
            <a:off x="971640" y="112536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陶醉　　沉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次去游览风景名胜，我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山川美景之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节日的欢乐气氛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写出下列句中用的修辞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蜻蜓飞过来，告诉我清早飞行的快乐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么多的白荷花，有姿势完全相同的吗？没有，一朵有一朵的姿势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570816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陶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5"/>
          <p:cNvSpPr/>
          <p:nvPr/>
        </p:nvSpPr>
        <p:spPr>
          <a:xfrm>
            <a:off x="2660400" y="341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沉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7299000" y="4525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4487400" y="563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设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619200" y="1039680"/>
            <a:ext cx="78404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心中的雨点来了，除了你，谁是我在无遮拦天空下的荫庇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改成陈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虽然可以在眼前给我们一种陶醉的幻境，但是，没有根底的陶醉毕竟也只能是短促的幻境而已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加点的词语写句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"/>
          <p:cNvSpPr/>
          <p:nvPr/>
        </p:nvSpPr>
        <p:spPr>
          <a:xfrm>
            <a:off x="1163520" y="2544840"/>
            <a:ext cx="7296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心中的雨点来了，除了你，谁都不是我在无遮拦天空下的荫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1165320" y="5038560"/>
            <a:ext cx="7294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b10f4"/>
                </a:solidFill>
                <a:latin typeface="宋体"/>
              </a:rPr>
              <a:t>示例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虽然大雨淋湿了我们前进的道路，但是，只要有坚强的意志，我们一定能到达目的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7"/>
          <p:cNvSpPr/>
          <p:nvPr/>
        </p:nvSpPr>
        <p:spPr>
          <a:xfrm>
            <a:off x="1284120" y="36590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914400" y="253836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积累优美词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课文，读懂课文的主要内容，想象作家们描绘的荷花美景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1"/>
          <p:cNvSpPr/>
          <p:nvPr/>
        </p:nvSpPr>
        <p:spPr>
          <a:xfrm>
            <a:off x="669960" y="2079720"/>
            <a:ext cx="793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些在很小的时候就打开了的叶子，实在令人心疼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缩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荷叶挨挨挤挤的，碧绿的面，淡绿的底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比喻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1730880" y="3257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叶子令人心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1197000" y="434196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荷叶挨挨挤挤的，像个大圆盘，碧绿的面，淡绿的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4"/>
          <p:cNvSpPr/>
          <p:nvPr/>
        </p:nvSpPr>
        <p:spPr>
          <a:xfrm>
            <a:off x="4224240" y="2295360"/>
            <a:ext cx="386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叶圣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89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8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原名叶绍钧，生于江苏苏州。著名作家、教育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篇小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倪焕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短篇小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潘先生在难中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0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1390680" y="2438280"/>
            <a:ext cx="23893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4"/>
          <p:cNvSpPr/>
          <p:nvPr/>
        </p:nvSpPr>
        <p:spPr>
          <a:xfrm>
            <a:off x="961920" y="2390760"/>
            <a:ext cx="72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汪曾祺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9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7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江苏人，中国当代作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受戒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晚饭花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逝水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晚翠文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4"/>
          <p:cNvSpPr/>
          <p:nvPr/>
        </p:nvSpPr>
        <p:spPr>
          <a:xfrm>
            <a:off x="4035600" y="1585800"/>
            <a:ext cx="42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冰心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9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999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原名谢婉莹，福建长乐人。著名诗人、儿童文学作家、散文家。笔名“冰心”取自“一片冰心在玉壶”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92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开始陆续发表总名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寄小读者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通讯散文，成为中国儿童文学的奠基之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樱花赞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往事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南归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305000" y="2120760"/>
            <a:ext cx="21146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4"/>
          <p:cNvSpPr/>
          <p:nvPr/>
        </p:nvSpPr>
        <p:spPr>
          <a:xfrm>
            <a:off x="4460760" y="2295360"/>
            <a:ext cx="386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席慕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4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蒙古族，当代诗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七里香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无怨的青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棵开花的树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352520" y="2152800"/>
            <a:ext cx="2274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任意多边形 8"/>
          <p:cNvSpPr/>
          <p:nvPr/>
        </p:nvSpPr>
        <p:spPr>
          <a:xfrm>
            <a:off x="1817640" y="2670120"/>
            <a:ext cx="7074000" cy="2685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秧     徘    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荫     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1644480" y="244008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ā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2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86" name="矩形 9"/>
          <p:cNvSpPr/>
          <p:nvPr/>
        </p:nvSpPr>
        <p:spPr>
          <a:xfrm>
            <a:off x="5667120" y="242424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á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3925800" y="244008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á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1"/>
          <p:cNvSpPr/>
          <p:nvPr/>
        </p:nvSpPr>
        <p:spPr>
          <a:xfrm>
            <a:off x="1822320" y="384192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4046760" y="384192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655640" y="2408400"/>
            <a:ext cx="7047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庇　　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坼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裂　 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妹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徘徊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攲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1650600" y="243540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3906720" y="2436840"/>
            <a:ext cx="8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5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9"/>
          <p:cNvSpPr/>
          <p:nvPr/>
        </p:nvSpPr>
        <p:spPr>
          <a:xfrm>
            <a:off x="6149880" y="243540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ī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1737360" y="359892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3750120" y="359892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ái  huá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6265800" y="361476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538280" y="2752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4"/>
          <p:cNvGrpSpPr/>
          <p:nvPr/>
        </p:nvGrpSpPr>
        <p:grpSpPr>
          <a:xfrm>
            <a:off x="2063880" y="2320920"/>
            <a:ext cx="4113000" cy="1373400"/>
            <a:chOff x="2063880" y="2320920"/>
            <a:chExt cx="4113000" cy="1373400"/>
          </a:xfrm>
        </p:grpSpPr>
        <p:sp>
          <p:nvSpPr>
            <p:cNvPr id="104" name="左大括号 2"/>
            <p:cNvSpPr/>
            <p:nvPr/>
          </p:nvSpPr>
          <p:spPr>
            <a:xfrm>
              <a:off x="2063880" y="2563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3"/>
            <p:cNvSpPr/>
            <p:nvPr/>
          </p:nvSpPr>
          <p:spPr>
            <a:xfrm>
              <a:off x="2230560" y="2320920"/>
              <a:ext cx="39463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āi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挨个儿　挨近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ái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挨饿　挨批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TextBox 13"/>
          <p:cNvSpPr/>
          <p:nvPr/>
        </p:nvSpPr>
        <p:spPr>
          <a:xfrm>
            <a:off x="1633680" y="42004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5"/>
          <p:cNvGrpSpPr/>
          <p:nvPr/>
        </p:nvGrpSpPr>
        <p:grpSpPr>
          <a:xfrm>
            <a:off x="2095560" y="3760920"/>
            <a:ext cx="4081320" cy="1373400"/>
            <a:chOff x="2095560" y="3760920"/>
            <a:chExt cx="4081320" cy="1373400"/>
          </a:xfrm>
        </p:grpSpPr>
        <p:sp>
          <p:nvSpPr>
            <p:cNvPr id="108" name="左大括号 14"/>
            <p:cNvSpPr/>
            <p:nvPr/>
          </p:nvSpPr>
          <p:spPr>
            <a:xfrm>
              <a:off x="2095560" y="3979800"/>
              <a:ext cx="171720" cy="950760"/>
            </a:xfrm>
            <a:custGeom>
              <a:avLst/>
              <a:gdLst>
                <a:gd name="textAreaLeft" fmla="*/ 109800 w 171720"/>
                <a:gd name="textAreaRight" fmla="*/ 172080 w 17172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15"/>
            <p:cNvSpPr/>
            <p:nvPr/>
          </p:nvSpPr>
          <p:spPr>
            <a:xfrm>
              <a:off x="2249280" y="3760920"/>
              <a:ext cx="39276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ū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花骨朵儿　骨碌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ǔ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骨头　骨气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11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6:54:36Z</dcterms:modified>
  <cp:revision>4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